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DA82-8B71-468F-A0D9-4B6ACF31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495-B32A-4166-B303-0D6BD71D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B63C-786F-4180-823D-BD36D1B8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958-7DFD-4A2B-A745-828FC43D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42C-8C46-4A2A-8C4D-DE9954BB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A55D-3A80-4A54-AF13-4F6CBA76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5D05-3738-4A99-B619-0FF1227E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BA1B-3140-438E-A9BE-665D8A3F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6812-C9C8-4430-A5BB-2C1E4180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884-9E60-49A9-B802-AA4912DE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5AA7-19F2-47DF-914A-2648F95A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FD0F-0F2C-47D1-8822-D303CF89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3122-08D5-4491-A7F3-ED36E00C47CF}" type="slidenum">
              <a:rPr b="0" lang="sr-Latn-C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сторијат масаж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Doc. Dr T.Lukov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-126000"/>
            <a:ext cx="7476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3143160" cy="4929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3929040" y="714240"/>
            <a:ext cx="35719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85840" y="3929040"/>
            <a:ext cx="657216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8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u  f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uskoj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literaturi Lepage (nazivi hvatov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replovci ,,loomi looomi masaža sa Tahit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214200"/>
            <a:ext cx="7650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личи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пулар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мериц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вроп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нека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цењ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учна револуција пре око 250 г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ско тело  као сложена маши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цењ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за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уш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четк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вод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школова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мпиричар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систен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риј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сн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с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палишти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ања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ск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вод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с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63520" y="857160"/>
            <a:ext cx="73864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наж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држљи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д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љ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диц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колов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ре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рти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пуш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гова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у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декват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ев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ист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доб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ки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овор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мфизе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лућ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пушт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с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ирцхбер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бор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ир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1285560"/>
            <a:ext cx="7386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о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ет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ра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п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ветр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2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x70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x75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редств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л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ели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љ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кови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пстанц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бо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кти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и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ај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ри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љ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д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5/10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л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уте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зив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rrig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ч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љ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ле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8001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ерск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581040" y="1600200"/>
            <a:ext cx="7981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735804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редњ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олошк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у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1"/>
          <a:stretch/>
        </p:blipFill>
        <p:spPr>
          <a:xfrm>
            <a:off x="1827360" y="1600200"/>
            <a:ext cx="548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редњ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олошк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у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1303200" y="1600200"/>
            <a:ext cx="653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3520" y="571320"/>
            <a:ext cx="738648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када се под појмом масажа подразумевало првенствено  коришћење енергије руку терапеута на телу пацијента, који је при том пасиван, тзв мануелна масаж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ише од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75 потпуно различитих техник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е можемо сматрати масажом, које се изводе на 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личите начине;  мануелно, а неке апаратима (апаратурна масажа). Неке технике масаже подразумевају пренос енергије са терапеута на пацијента некада и без директног конта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редњ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олошк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ог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редњ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олошк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ог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457200" y="1695600"/>
            <a:ext cx="82296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рст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аж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63520" y="928440"/>
            <a:ext cx="738648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рема пореклу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постоји савремена и традиционална масажа. Савремена масажа је повезана са кинезитерапијом; данас се користи не само у терапијске, него и у профилактичке сврх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рема томе ко изводи масажу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, постоји самомасажа, код које се особа сама масира, или масажу изводи једна особа (терапеут) на другој особ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паратур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рст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аме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с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 класична мануелна 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 лимфна дрен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 рефлексна 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.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л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ртс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зметич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ема начину извођењ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63520" y="713880"/>
            <a:ext cx="73864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ануелну или ручну масажу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коју изводи терапеут рукама користећи сопствену енерги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А) класичне технике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глађење,трљање, гњечење,лупкање и вибр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Б) специјалне технике масаже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риостна, фасцијална, поткожна, кожна, сегментна масажа, акопресура, рефлексна масажа стопала, шијацу масажа, мануелна лимфна дренажа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Опште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индиректно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масаж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071720"/>
            <a:ext cx="76500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год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уште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пл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ака млитавост  и  замореност миши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сихич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гестив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мирујућ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SY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ул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ној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брза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с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шир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ски делује на нервозу,главобољу  несаниц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д преверемено рођене дец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као антистресогена терап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терапији депресије, болова,стимулише имунитет.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8880" y="-126000"/>
            <a:ext cx="7476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3520" y="642600"/>
            <a:ext cx="738648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д Алзхеимер ове болести, депресије, фибромијалгије, пременструалних тегоба, стреса на послу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че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стови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arpal tunel S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рвозе, главобоље и несан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иминацију  мокраћом: мокраћне киселине, соли фосфора, нитрата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клања умо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г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сивн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марањ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филактич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јств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8880" y="-14760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63520" y="500040"/>
            <a:ext cx="738648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рујемо да је масажа стара колико и човечанство. Она постоји ,,од тренутка кад  је праисторијски човек први пут трљао своје убоје,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kman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 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ме сведоче цртежи из праисторије сачувани на зидовима пећ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дир је коришћен као терапијско средство много пре употребе лекова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eld, 2002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ришћење масаже везано је за историјске, верске и економске окол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када  је масажа чешће коришћена у појединим деловима света, у одређеним слојевима друштва, првенствено код особа које су имале неки здравствени пробл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071720"/>
            <a:ext cx="76500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и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5000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упукту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у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,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уд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тер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у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пан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atyz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zy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тиса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и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л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ог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ж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са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1800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гипћа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сирц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рсијанц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ц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рап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cen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,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нон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спрш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имља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лес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тле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адијато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за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адиј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ицеро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ч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е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8880" y="-9576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3520" y="214200"/>
            <a:ext cx="738648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esar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је боловао од епилепсије; користио штипкање,  да би олакшао главобољу и неуралгију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linij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, чувени  римски  научник, астму ублажавао је  трљањ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имски државници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ulije Cezar, Hadrian, Ciceron, Celsius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имали су своје личне масере. У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Homerovoj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,,Одисеји,,  је описано како су се грчки јунаци масирали у паузи између борби под Трој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63520" y="356760"/>
            <a:ext cx="738648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Galen Claudius (130-200 pne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а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школи за гладијато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ви спортски саветовао је примену масаже као начин загревања гладијатора пре борбе, али и за здраве особе, атлете. ,,сва мишићна влакна треба истегнути у свим правцима,,... намера масаже ,,да размекша тело пре вежбања,,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веку Римљанин 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ribasius (325-403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e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ише да да пре вежбања удове масажом треба угрејати и омекшати, а после рада омлитавети и освежити. Овакви ставови важе у спортској масажи до данашњих д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63520" y="571320"/>
            <a:ext cx="738648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у су у почетку спроводили нешколовани људи који су емпиријски стицали знања од својих претходника,а унапређивана је кроз практичну прим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ком времена масажа се развијала првенствено као лекарска вештина, јер је за њено извођење потребно  познавање анатомије и физиоло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сторијат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асаж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785880"/>
            <a:ext cx="76500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едње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к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збија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тицаје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ришћанст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лес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т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brosius Pare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Швеђани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.H. Ling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нивач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дер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Шведск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имнастичк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ститу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ок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оланђани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ger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1839-1900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уч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но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вроп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ват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блудовс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1906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оди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еље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саж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ерлин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убликова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в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нивач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ласич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нуел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са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њиг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риз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прем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марајућ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саж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3:12:48Z</dcterms:created>
  <dc:creator>korisnik</dc:creator>
  <dc:description/>
  <dc:language>en-US</dc:language>
  <cp:lastModifiedBy>Info</cp:lastModifiedBy>
  <dcterms:modified xsi:type="dcterms:W3CDTF">2018-08-13T20:25:35Z</dcterms:modified>
  <cp:revision>56</cp:revision>
  <dc:subject/>
  <dc:title>Uvod u masažu</dc:title>
</cp:coreProperties>
</file>